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50997476"/>
        <c:axId val="65301727"/>
      </c:barChart>
      <c:catAx>
        <c:axId val="50997476"/>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65301727"/>
        <c:crosses val="autoZero"/>
        <c:auto val="1"/>
        <c:lblAlgn val="ctr"/>
        <c:lblOffset val="100"/>
        <c:noMultiLvlLbl val="0"/>
      </c:catAx>
      <c:valAx>
        <c:axId val="65301727"/>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50997476"/>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19FCD2-F2A1-4A07-9F15-CFA1440F93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A0014-5EF3-4B06-A4A7-F88BECE7E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ABFA9B-6F92-48C5-AFE8-E55C365B6C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967B4-7E18-482B-8686-BC2FE46B25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7D3231-3AF2-415E-B35F-2C336439DA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546016-E253-4017-BDCE-1B599E2C5F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B75E4F-ED01-4D7E-A9AA-265D7A2DCC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55CFCC-9BF2-4DFC-BD23-9D478D3176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20711D-694B-42BF-A5B7-2386F1F0E1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0CC5AB-2B39-4ED1-BDB8-507837AB67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D48FF-90FB-4639-B8E5-DB20BE0BE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9072D-56C9-43C6-A8CE-CDD3CB361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F5369-2525-4C84-8A39-C777D6679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3050A-8F97-45E3-AED0-88C51EC97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3573C0-1027-4864-86C3-14B6B29B27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431768-FB68-423C-8721-70BB5C9D8B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FA7B47-C654-4B13-9663-476DEB3C04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2734D-DD59-47A4-B5D9-3377D67B3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3FA7C-AB46-43B1-914C-0EB8D8091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CFFF5-8590-4D0B-B3F0-09A476786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971FC-0D78-4720-AE66-3E21EDDE9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BD90A-42A9-4943-9EED-3C968DB53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EBF16-2EEE-4528-881E-FAD089835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ADCD6-91A4-4F5A-9E25-E26E1153E4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1716D9-7C68-4CCA-B369-359E158E17A5}"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B95E33-58A6-453B-AFB7-C6D52331FF68}"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